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7C1A57-0BA6-407C-AA96-6F26501F06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7ABAB1-1F31-4E99-9C88-9EEC59290C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581C6E-8449-47F2-A4CF-EFFF1F3822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3B90C9-DDF8-4EFB-82DC-8898E84D43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74CDAE-38BE-45CE-A878-208EE645B4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3FD3D0-B91D-46BA-B0BD-A27840AF89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027A14-36C0-4FA8-AC92-0CB3076CE1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D0408E-8158-46EE-9E61-D3A4AE4D43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3E46D-424B-4898-B45D-A66DADBC7F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CD9ED-F593-4D5C-B199-ACFBD09FE9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F5BF4-5403-44A9-B8D8-BA1CE7D15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E902A-AFE4-426A-9D12-65E697DFDA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3C239-0172-4E2F-86C3-7B423587B044}"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907920"/>
            <a:ext cx="7772400" cy="410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600" spc="-1" strike="noStrike">
                <a:solidFill>
                  <a:srgbClr val="000000"/>
                </a:solidFill>
                <a:latin typeface="Calibri"/>
              </a:rPr>
              <a:t>Problems Caused By Agriculture In MEDC’s</a:t>
            </a: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The Common Agricultural Policy</a:t>
            </a:r>
            <a:endParaRPr b="0" lang="en-US" sz="4400" spc="-1" strike="noStrike">
              <a:solidFill>
                <a:srgbClr val="000000"/>
              </a:solidFill>
              <a:latin typeface="Calibri"/>
            </a:endParaRPr>
          </a:p>
        </p:txBody>
      </p:sp>
      <p:sp>
        <p:nvSpPr>
          <p:cNvPr id="43"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a:t>
            </a:r>
            <a:r>
              <a:rPr b="1" lang="en-US" sz="3200" spc="-1" strike="noStrike">
                <a:solidFill>
                  <a:srgbClr val="000000"/>
                </a:solidFill>
                <a:latin typeface="Calibri"/>
              </a:rPr>
              <a:t> Common Agricultural Policy</a:t>
            </a:r>
            <a:r>
              <a:rPr b="0" lang="en-US" sz="3200" spc="-1" strike="noStrike">
                <a:solidFill>
                  <a:srgbClr val="000000"/>
                </a:solidFill>
                <a:latin typeface="Calibri"/>
              </a:rPr>
              <a:t>, whilst guaranteeing to farmers that there would be someone to buy their produce also produced some serious environmental problem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rmers knew they could produce as much as they possibly could and it would definitely be bought so they tried to use every inch of their land, and often changed from pastoral farming to arable farming.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caused serious environmental problem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Hedgerow Removal</a:t>
            </a:r>
            <a:endParaRPr b="0" lang="en-US" sz="4400" spc="-1" strike="noStrike">
              <a:solidFill>
                <a:srgbClr val="000000"/>
              </a:solidFill>
              <a:latin typeface="Calibri"/>
            </a:endParaRPr>
          </a:p>
        </p:txBody>
      </p:sp>
      <p:sp>
        <p:nvSpPr>
          <p:cNvPr id="45" name=""/>
          <p:cNvSpPr txBox="1"/>
          <p:nvPr/>
        </p:nvSpPr>
        <p:spPr>
          <a:xfrm>
            <a:off x="457200" y="1599840"/>
            <a:ext cx="82296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tween the end of the war in 1945 and 1995 over 60% of hedgerows in England and Wales were removed.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dgerows are important wildlife habitats but they limit the amount of land a farmer can use, and many wanted to merge small pastoral fields into huge arable fields due to the increased money they could make from that form of farming.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loss of hedgerows also increased the chance of soil erosion occurring as they sheltered the land from wind, helping the soil to bind togeth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Pollution</a:t>
            </a:r>
            <a:endParaRPr b="0" lang="en-US" sz="4400" spc="-1" strike="noStrike">
              <a:solidFill>
                <a:srgbClr val="000000"/>
              </a:solidFill>
              <a:latin typeface="Calibri"/>
            </a:endParaRPr>
          </a:p>
        </p:txBody>
      </p:sp>
      <p:sp>
        <p:nvSpPr>
          <p:cNvPr id="47" name=""/>
          <p:cNvSpPr txBox="1"/>
          <p:nvPr/>
        </p:nvSpPr>
        <p:spPr>
          <a:xfrm>
            <a:off x="457200" y="1599840"/>
            <a:ext cx="8229600" cy="5257800"/>
          </a:xfrm>
          <a:prstGeom prst="rect">
            <a:avLst/>
          </a:prstGeom>
          <a:noFill/>
          <a:ln w="0">
            <a:noFill/>
          </a:ln>
        </p:spPr>
        <p:txBody>
          <a:bodyPr anchor="t">
            <a:normAutofit/>
          </a:bodyPr>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increased use of pesticides and fertilisers has led to air and water pollution. </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hemicals used on the fields, are easily washed into rivers by rainwater and can seriously affect the fish, birds and plants of the river. </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y can also leach through the ground and into rivers. Fertilisers in water can cause rapid algae growth. </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s then can lead to the water being starved of oxygen so there is not enough for other plants, and especially fish. </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s process is called </a:t>
            </a:r>
            <a:r>
              <a:rPr b="1" lang="en-US" sz="2700" spc="-1" strike="noStrike">
                <a:solidFill>
                  <a:srgbClr val="000000"/>
                </a:solidFill>
                <a:latin typeface="Calibri"/>
              </a:rPr>
              <a:t>eutrophication.</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Soil Erosion</a:t>
            </a:r>
            <a:endParaRPr b="0" lang="en-US" sz="4400" spc="-1" strike="noStrike">
              <a:solidFill>
                <a:srgbClr val="000000"/>
              </a:solidFill>
              <a:latin typeface="Calibri"/>
            </a:endParaRPr>
          </a:p>
        </p:txBody>
      </p:sp>
      <p:sp>
        <p:nvSpPr>
          <p:cNvPr id="49" name=""/>
          <p:cNvSpPr txBox="1"/>
          <p:nvPr/>
        </p:nvSpPr>
        <p:spPr>
          <a:xfrm>
            <a:off x="457200" y="1599840"/>
            <a:ext cx="8229600" cy="52578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removal of hedgerows and the change from pasture to arable farming has led to many cases of increased soil erosion.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hedges protected the soil from wind erosion, and their removal created huge fields across which the wind could race.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rable crops do not bind the soil together as well as grass and so more soil was eroded by rainwater run-off.</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so the crops did not cover the ground all year round and when the fields were ploughed they were even more susceptible to rapid erosion, and flooding.</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7T16:54:14Z</dcterms:created>
  <dc:creator>Dell_02</dc:creator>
  <dc:description/>
  <dc:language>en-US</dc:language>
  <cp:lastModifiedBy>Dell_02</cp:lastModifiedBy>
  <dcterms:modified xsi:type="dcterms:W3CDTF">2011-01-27T16:58:30Z</dcterms:modified>
  <cp:revision>1</cp:revision>
  <dc:subject/>
  <dc:title>Problems Caused By Agriculture In MEDC’s</dc:title>
</cp:coreProperties>
</file>